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BEAA8-3275-404C-B7C9-9DF2CEC527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as produced by external services (Gulam Patel). Note that at the end of the animation you need to click on the outside edge of the slide to allow you to move to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84408-676A-40FB-81B5-B5A18D480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EF3F2-8403-4906-954F-38F80F2D6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9BD55-91EC-480E-AA62-308E07CB7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DD6ED-5FBA-447A-A4AF-4970787C4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F6D9E-595B-41D2-A517-9813F0F9F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FC954-A274-489F-BFC0-326418DD7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2F9B0-9284-4998-9FE5-B5DFE464F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9CEDD-E77B-4FEC-BBB8-E0E7C1DCA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FB620-CF94-45D5-87C4-C5B4AA3CF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39C6A-2C34-49ED-A0CF-B3825A7C2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2B312-4D9F-40A1-8919-D4701358E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D45B2-C754-4597-8DB8-C117F8CBF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0E67-25A4-4EF7-B306-735A072ED8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fore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ShockwaveFlash1"/>
          <p:cNvGraphicFramePr/>
          <p:nvPr/>
        </p:nvGraphicFramePr>
        <p:xfrm>
          <a:off x="250920" y="981000"/>
          <a:ext cx="8569080" cy="5543640"/>
        </p:xfrm>
        <a:graphic>
          <a:graphicData uri="http://schemas.openxmlformats.org/presentationml/2006/ole">
            <p:oleObj r:id="rId1" spid="">
              <p:embed/>
              <p:pic>
                <p:nvPicPr>
                  <p:cNvPr id="50" name="ShockwaveFlash1" descr=""/>
                  <p:cNvPicPr/>
                  <p:nvPr/>
                </p:nvPicPr>
                <p:blipFill>
                  <a:blip r:embed="rId2"/>
                  <a:stretch/>
                </p:blipFill>
                <p:spPr>
                  <a:xfrm>
                    <a:off x="250920" y="981000"/>
                    <a:ext cx="8569080" cy="5543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ter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so 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2:26:14Z</dcterms:created>
  <dc:creator>Gulam</dc:creator>
  <dc:description/>
  <dc:language>en-US</dc:language>
  <cp:lastModifiedBy>Watson</cp:lastModifiedBy>
  <dcterms:modified xsi:type="dcterms:W3CDTF">2006-03-15T15:45:53Z</dcterms:modified>
  <cp:revision>33</cp:revision>
  <dc:subject/>
  <dc:title>Slide 1</dc:title>
</cp:coreProperties>
</file>