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move the slid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3B9E-FF8E-4CC5-8556-307B0F797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31 terms - comp 1400, process 8000, function 7300; 86%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did they think of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mitations? Weaknes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B60-C377-47E5-B36F-B3340A6A4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5C1E-EA8D-44EA-819A-99550FE9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5E86-E4EB-4F6D-83D6-DE6B55C0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514-B3D4-4FBF-8A8F-D355DAC97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ADB9-5F17-4C48-B624-24ED8F1D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34AD-EA76-408B-936D-E3B81509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3B3D-1795-4F34-B7E1-A613980C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7EE1-7FB7-4BD1-A07F-03A148C4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9FF5-BB50-45F5-BA02-C1F45096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54F4-1C9D-4699-8CDD-4DAFEFD8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568B3-F1A8-4240-BCD0-6225F766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C96-5FDC-4741-9977-D3ADF842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1E781-6FB3-498B-BA1E-FE8F1C74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D2EA-1BE9-49F0-85FC-C5C388B9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29C0-A2B4-469D-BC51-BC4237DB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299E-78BD-482E-8D64-AAABFAA3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2B0A-11A0-4CF4-ACEA-7CD540FE4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D50A-4937-45E4-9626-43E4C6CA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F47-4DAB-4250-8794-3A878782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8472-F169-43CA-AA64-ED52EB4F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C4D-569F-4725-9B1E-9A6A2337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F3B-81E3-414A-9FF3-8423566B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0E50-68EA-426A-8B02-26378E7C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7B1A-E689-413E-B903-30CA437B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1C3F-1308-473C-B9F1-A4A0ED6547D3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ECF9-EA59-4E08-A58B-C48EA099A5EE}" type="slidenum">
              <a:rPr b="0" lang="en-US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7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9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Lucida Grande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: the Gene Ontology</a:t>
            </a:r>
            <a:br>
              <a:rPr sz="4400"/>
            </a:br>
            <a:br>
              <a:rPr sz="2000"/>
            </a:br>
            <a:r>
              <a:rPr b="0" i="1" lang="en-US" sz="3600" spc="-1" strike="noStrike">
                <a:solidFill>
                  <a:srgbClr val="1822cd"/>
                </a:solidFill>
                <a:latin typeface="Tahoma"/>
              </a:rPr>
              <a:t>“because you know sometimes</a:t>
            </a:r>
            <a:br>
              <a:rPr sz="3600"/>
            </a:br>
            <a:r>
              <a:rPr b="0" i="1" lang="en-US" sz="3600" spc="-1" strike="noStrike">
                <a:solidFill>
                  <a:srgbClr val="1822cd"/>
                </a:solidFill>
                <a:latin typeface="Tahoma"/>
              </a:rPr>
              <a:t>words have two meanings”</a:t>
            </a:r>
            <a:endParaRPr b="1" lang="en-US" sz="36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elia Irelan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Curator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, Cambridge, U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ological process: the broad goal or ‘purpose’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ucose metaboli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rtship behavi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pamine receptor signaling pathwa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GPs work together in a certain process; a set of functions contribute to building up a process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Anatomy of a GO ter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erms are composed 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 nam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GO I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 (86% of GO terms defined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onyms (optional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references (optional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s to other GO term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6600+ term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Anatomy of a GO term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strings may be ambiguous; go by what the definition say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synonyms are ‘related concepts’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search ai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er, narrower, exact or related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ships stored in synonyms file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es-specific terms use the phrase “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ensu xx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 - ‘in the sense of’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Ontology Stru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tologies are structured as a hierarchical directed acyclic graph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s are linked by two relationshi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-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Webdings"/>
                <a:ea typeface="Webdings"/>
              </a:rPr>
              <a:t>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-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1822cd"/>
                </a:solidFill>
                <a:latin typeface="Webdings"/>
                <a:ea typeface="Web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s can have more than one paren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Ontology Structur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38" name=""/>
          <p:cNvSpPr/>
          <p:nvPr/>
        </p:nvSpPr>
        <p:spPr>
          <a:xfrm>
            <a:off x="62640" y="2043000"/>
            <a:ext cx="7983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embrane          chlorop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itochondrial        chloropl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Console"/>
              </a:rPr>
              <a:t>membrane             membr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038480"/>
            <a:ext cx="0" cy="12956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4038480"/>
            <a:ext cx="3352680" cy="137160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114800"/>
            <a:ext cx="0" cy="1295280"/>
          </a:xfrm>
          <a:prstGeom prst="line">
            <a:avLst/>
          </a:prstGeom>
          <a:ln w="1270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209680" y="2590920"/>
            <a:ext cx="1524240" cy="914400"/>
          </a:xfrm>
          <a:prstGeom prst="line">
            <a:avLst/>
          </a:prstGeom>
          <a:ln w="1270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2590920"/>
            <a:ext cx="1523880" cy="914400"/>
          </a:xfrm>
          <a:prstGeom prst="line">
            <a:avLst/>
          </a:prstGeom>
          <a:ln w="127080">
            <a:solidFill>
              <a:srgbClr val="1822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12880" y="1998720"/>
            <a:ext cx="16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is-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822cd"/>
                </a:solidFill>
                <a:latin typeface="Tahoma"/>
              </a:rPr>
              <a:t>part-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True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ath</a:t>
            </a: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 Ru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from a child term all the way up to its top-level parent(s) must always be tru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56833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But what about bacter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True Path Rul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olved component ontology structure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ebdings" charset="2"/>
              <a:buChar char="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ar 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428840" indent="-228600">
              <a:lnSpc>
                <a:spcPct val="100000"/>
              </a:lnSpc>
              <a:spcBef>
                <a:spcPts val="601"/>
              </a:spcBef>
              <a:buClr>
                <a:srgbClr val="1822cd"/>
              </a:buClr>
              <a:buFont typeface="Web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clear chromosom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for it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ttp://www.ebi.ac.uk/~aji/exI.html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"right" or "wrong" answer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in the biological community, words can mean different thing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broad terms are difficult to define (eg. cell)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you define a term determines what ontology it goes int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component: xxx complex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function: xxx activit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“strengths” of part-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est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is always part of B and B always has part 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akest: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is sometimes part of B and B sometimes has part A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tries to use the strongest form but it is not always possible (eg. cellular components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’s in a name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define “cell”?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structural and functional unit of all organisms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evice that delivers an electric current as the result of a chemical rea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room where a prisoner is kep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mall compartment (e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el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honeycomb)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mall unit serving as part of or as the nucleus of a larger political move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ell can be a whole organism or a part of i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I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568c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ere would you put ‘cell wall’ and how would you define it? Does it require any children?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568c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would you deal with viruses?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Exercise III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ens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erms give you greater control over names that have different meanings in different spec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g. TCA cycle enzyme complex (sensu Bacteria) vs TCA cycle enzyme complex (sensu Eukaryota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definitions can dictate ontology structure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Tahoma"/>
              </a:rPr>
              <a:t>Lunch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Drin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Be merr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Annot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GO terms to represent the activities and localizations of a gene produ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notations made up of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object: gene or gene produ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term ID - GO:0003677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for annotat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idence code (another vocabulary)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Annotation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Sequence/Structural Similar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Direct Assa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Physical Intera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able Author State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traceable Author Statement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Mutant Phenotyp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Genetic Interac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Expression Patter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by Curator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ata available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erred from electronic annotation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456320" y="3408480"/>
            <a:ext cx="1078200" cy="782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57200" y="1828800"/>
            <a:ext cx="8229600" cy="4114800"/>
          </a:xfrm>
          <a:prstGeom prst="rect">
            <a:avLst/>
          </a:prstGeom>
          <a:noFill/>
          <a:ln w="38160">
            <a:solidFill>
              <a:srgbClr val="3568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6095880"/>
            <a:ext cx="8229600" cy="533520"/>
          </a:xfrm>
          <a:prstGeom prst="rect">
            <a:avLst/>
          </a:prstGeom>
          <a:noFill/>
          <a:ln w="38160">
            <a:solidFill>
              <a:srgbClr val="ff92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Annotate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this study, we report the isolation and molecular characterization of the B. napus PERK1 cDNA, that is predicted to encode a novel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receptor-like kinas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 We have shown that like other plant RLKs, the kinase domain of PERK1 has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serine/threonine kinase activit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. In addition, the location of a PERK1-GTP fusion protein to the plasma membrane supports the prediction that PERK1 is a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integral membrane protei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…these kinases have been implicated in early stages of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wound respons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Function: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protein serine/threonine kinase activity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GO:0004674  (IDA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Component: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integral to plasma membrane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GO:0005887  (IDA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Process: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response to wounding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  <a:ea typeface="Arial"/>
              </a:rPr>
              <a:t>GO:0009611 (NAS)</a:t>
            </a: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GO for it (again)!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o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ttp://www.ebi.ac.uk/~aji/exIV.html</a:t>
            </a:r>
            <a:endParaRPr b="0" lang="en-US" sz="3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1822cd"/>
                </a:solidFill>
                <a:latin typeface="Tahoma"/>
              </a:rPr>
              <a:t>Summary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GO is still being developed and updat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ny areas lack detai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ntologies contain error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databases joining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ew tools being develope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aking links with other databases and ontologies, eg. MetaCyc, UMLS, OBO projec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 is GO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blem: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st amounts of biological data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names for the same concept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-species comparison is difficul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(part of the) solution: 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: “a controlled vocabulary that can be applied to all organisms even as knowledge of gene and protein roles in cells is accumulating and changing”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 is GO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of the Open Biological Ontologi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tandard, species-neutral way of representing biology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ree structured networks of defined terms to describe gene product attribut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like a phrase book than a biology text book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What is GO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 system of nomenclature or a list of gene produc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doesn’t attempt to cover all aspects of biology or evolutionary relationship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 dictated standard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a way to unify databa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aims to provide a set of terms that can be used to describe gene product attributes. What information might we want to capture about a gene produc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does the gene product do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nd when does it act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does it perform these activities?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covers ‘normal’ functions and processe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thological processe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xperimental conditions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llular component: where a gene product acts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tochondrion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ellular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asome complex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zyme complexes in the component ontology should refer to places, not activities.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Tahoma"/>
              </a:rPr>
              <a:t>How does GO work?</a:t>
            </a:r>
            <a:endParaRPr b="1" lang="en-US" sz="4400" spc="-1" strike="noStrike">
              <a:solidFill>
                <a:srgbClr val="1822cd"/>
              </a:solidFill>
              <a:latin typeface="Lucida Gran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ar function: activities or “jobs” of a gene product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oxide dismutase activ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pid binding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ug transporter activity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e product may have several functions; a function term refers to a single reaction or activity, not a gene product.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3T18:39:19Z</dcterms:created>
  <dc:creator>Amelia Ireland</dc:creator>
  <dc:description/>
  <dc:language>en-US</dc:language>
  <cp:lastModifiedBy>aji</cp:lastModifiedBy>
  <dcterms:modified xsi:type="dcterms:W3CDTF">2003-11-27T14:20:49Z</dcterms:modified>
  <cp:revision>18</cp:revision>
  <dc:subject/>
  <dc:title>GO : the Gene Ontology</dc:title>
</cp:coreProperties>
</file>