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03C01-0C6D-4893-896C-6C36C7523CC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ldImg"/>
          </p:nvPr>
        </p:nvSpPr>
        <p:spPr>
          <a:xfrm>
            <a:off x="1143000" y="685800"/>
            <a:ext cx="4572000" cy="3429000"/>
          </a:xfrm>
          <a:prstGeom prst="rect">
            <a:avLst/>
          </a:prstGeom>
          <a:ln w="0">
            <a:noFill/>
          </a:ln>
        </p:spPr>
      </p:sp>
      <p:sp>
        <p:nvSpPr>
          <p:cNvPr id="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was produced by external services (Gulam Patel). Note that at the end of the animation you need to click on the outside edge of the slide to allow you to move to the next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D8C34E-CD06-4EDE-A331-8DBAC113AC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23043-1A65-471E-AB78-8F984FAE4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4C828D-2256-4F2D-A6E0-ACB90D558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D11A9-D056-4439-B61B-5DB714EFCF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BA393-B5DF-4E44-AE60-35026E89E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3C0A2-D80D-4563-918A-E887D37AC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D912A-80A6-458F-B29D-ABD4ADECD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CEFA5-7B0D-4925-AD05-F431146E2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178EA-C06F-4D7D-9231-F1A7FD641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D622E-E7AA-4CDB-8D6E-94482C9AB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34B1D-6F74-4399-AB30-9B1634F51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0CE0E-7C3A-433D-9628-7C60EACBF4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3A4AE-7723-4764-9734-DE321BAA75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efore sli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ShockwaveFlash1"/>
          <p:cNvGraphicFramePr/>
          <p:nvPr/>
        </p:nvGraphicFramePr>
        <p:xfrm>
          <a:off x="250920" y="981000"/>
          <a:ext cx="8569080" cy="5543640"/>
        </p:xfrm>
        <a:graphic>
          <a:graphicData uri="http://schemas.openxmlformats.org/presentationml/2006/ole">
            <p:oleObj r:id="rId1" spid="">
              <p:embed/>
              <p:pic>
                <p:nvPicPr>
                  <p:cNvPr id="50" name="ShockwaveFlash1" descr=""/>
                  <p:cNvPicPr/>
                  <p:nvPr/>
                </p:nvPicPr>
                <p:blipFill>
                  <a:blip r:embed="rId2"/>
                  <a:stretch/>
                </p:blipFill>
                <p:spPr>
                  <a:xfrm>
                    <a:off x="250920" y="981000"/>
                    <a:ext cx="8569080" cy="5543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fter Sli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t>
            </a:r>
            <a:r>
              <a:rPr b="0" lang="en-GB" sz="4400" spc="-1" strike="noStrike">
                <a:solidFill>
                  <a:srgbClr val="000000"/>
                </a:solidFill>
                <a:latin typeface="Arial"/>
              </a:rPr>
              <a:t>so o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12:26:14Z</dcterms:created>
  <dc:creator>Gulam</dc:creator>
  <dc:description/>
  <dc:language>en-US</dc:language>
  <cp:lastModifiedBy>Watson</cp:lastModifiedBy>
  <dcterms:modified xsi:type="dcterms:W3CDTF">2006-03-15T15:45:53Z</dcterms:modified>
  <cp:revision>33</cp:revision>
  <dc:subject/>
  <dc:title>Slide 1</dc:title>
</cp:coreProperties>
</file>