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2C34-3983-4997-B883-E2B6AD8F3B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produced by external services (Gulam Patel). Note that at the end of the animation you need to click on the outside edge of the slide to allow you to move to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F3CB5-74BD-463B-AC4D-BA1FBDD6F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F6D12-8C5E-422A-B11A-48B265910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36DD7-E19F-4A13-A144-66165D580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C99AC-FC88-48B6-A63E-C64BD5A88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D3019-1E39-4FF0-872F-8F3924E1E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80BC2-12D4-4832-AF02-C18961DF7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F38C6-EFA9-44C2-B0FB-4EF071353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A7461-DFB9-4FCF-9DA1-855474464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A39FA-F01E-4294-917C-275EC2A67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98785-A8EF-4102-841D-A87938879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F8300-FFA5-42AB-A97A-E80338135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3C23D-88EA-46B8-B150-E1DE75690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3833-8831-443F-970D-A45685C983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fore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ShockwaveFlash1"/>
          <p:cNvGraphicFramePr/>
          <p:nvPr/>
        </p:nvGraphicFramePr>
        <p:xfrm>
          <a:off x="250920" y="981000"/>
          <a:ext cx="8569080" cy="5543640"/>
        </p:xfrm>
        <a:graphic>
          <a:graphicData uri="http://schemas.openxmlformats.org/presentationml/2006/ole">
            <p:oleObj r:id="rId1" spid="">
              <p:embed/>
              <p:pic>
                <p:nvPicPr>
                  <p:cNvPr id="50" name="ShockwaveFlash1" descr=""/>
                  <p:cNvPicPr/>
                  <p:nvPr/>
                </p:nvPicPr>
                <p:blipFill>
                  <a:blip r:embed="rId2"/>
                  <a:stretch/>
                </p:blipFill>
                <p:spPr>
                  <a:xfrm>
                    <a:off x="250920" y="981000"/>
                    <a:ext cx="8569080" cy="5543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ter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so 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26:14Z</dcterms:created>
  <dc:creator>Gulam</dc:creator>
  <dc:description/>
  <dc:language>en-US</dc:language>
  <cp:lastModifiedBy>Watson</cp:lastModifiedBy>
  <dcterms:modified xsi:type="dcterms:W3CDTF">2006-03-15T15:45:53Z</dcterms:modified>
  <cp:revision>33</cp:revision>
  <dc:subject/>
  <dc:title>Slide 1</dc:title>
</cp:coreProperties>
</file>