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929D-AC6C-48C6-8B95-1575C471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587-DC13-4AD6-B269-D77F9FB7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1B4-FABF-4501-8D2B-06D5415C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A5B-188C-40CC-9716-615BFC79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365-1C87-44EC-B749-D3568863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C8B-1875-4A8D-B846-E8B6050E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388-06F4-474F-8C07-3893AE09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74A-AE16-4A08-871D-3B404CC8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FAD-982F-49E1-A38B-932D2B31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3B9-BF5F-4486-9E0B-42134649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6B7-7D98-4EC4-945E-C35B4123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E0A-34B1-456D-83CA-742F642D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AB89-49FE-4424-888E-1B60E7768D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fulltree" descr=""/>
          <p:cNvPicPr/>
          <p:nvPr/>
        </p:nvPicPr>
        <p:blipFill>
          <a:blip r:embed="rId1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62480" y="5881680"/>
            <a:ext cx="129528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867280"/>
            <a:ext cx="1600200" cy="762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867280"/>
            <a:ext cx="1295280" cy="7621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429000"/>
            <a:ext cx="1295280" cy="990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86400"/>
            <a:ext cx="129528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00200"/>
            <a:ext cx="129528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1480" y="595440"/>
            <a:ext cx="129528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14440" y="4557600"/>
            <a:ext cx="129528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2640" y="2486160"/>
            <a:ext cx="1295280" cy="609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5867280"/>
            <a:ext cx="1295280" cy="762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33960" y="3200400"/>
            <a:ext cx="2638440" cy="2438280"/>
            <a:chOff x="5133960" y="3200400"/>
            <a:chExt cx="2638440" cy="2438280"/>
          </a:xfrm>
        </p:grpSpPr>
        <p:sp>
          <p:nvSpPr>
            <p:cNvPr id="55" name=""/>
            <p:cNvSpPr/>
            <p:nvPr/>
          </p:nvSpPr>
          <p:spPr>
            <a:xfrm>
              <a:off x="5133960" y="4572000"/>
              <a:ext cx="1295280" cy="106668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3200400"/>
              <a:ext cx="1295280" cy="5335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ewmiddle" descr=""/>
          <p:cNvPicPr/>
          <p:nvPr/>
        </p:nvPicPr>
        <p:blipFill>
          <a:blip r:embed="rId2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0720" y="4648320"/>
            <a:ext cx="6019560" cy="91440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ewmiddle2" descr=""/>
          <p:cNvPicPr/>
          <p:nvPr/>
        </p:nvPicPr>
        <p:blipFill>
          <a:blip r:embed="rId3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581280"/>
            <a:ext cx="5943600" cy="76212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5:42:46Z</dcterms:created>
  <dc:creator>Watson</dc:creator>
  <dc:description/>
  <dc:language>en-US</dc:language>
  <cp:lastModifiedBy>Watson</cp:lastModifiedBy>
  <dcterms:modified xsi:type="dcterms:W3CDTF">2006-03-15T15:43:46Z</dcterms:modified>
  <cp:revision>1</cp:revision>
  <dc:subject/>
  <dc:title>PowerPoint Presentation</dc:title>
</cp:coreProperties>
</file>