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88D9-5876-4015-8553-8A36F34B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AB75-2F9D-431B-9D5C-F702ACDE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EAD-68C9-4ECD-80AA-93E6EB0D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F66-5CFC-40F2-BEB4-D0BE4753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DFD-7C76-40C0-9F08-03EE25C0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90D9-5101-460E-9DEB-3E47AA7D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DB0A-7171-4377-8A7A-410D72F6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5FA3-7DAC-435D-9A9A-F4A30058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D6B0-1066-4E38-909B-C7554E0B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1E44-0C31-469D-A10C-B44EFC83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7D99-E5D8-4522-BDEE-725816B6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8DB-8558-4DC6-814A-8628F58D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FDC4-9D3D-4F4A-9662-F0BAE3F83C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fulltree" descr=""/>
          <p:cNvPicPr/>
          <p:nvPr/>
        </p:nvPicPr>
        <p:blipFill>
          <a:blip r:embed="rId1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62480" y="5881680"/>
            <a:ext cx="129528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5867280"/>
            <a:ext cx="1600200" cy="7621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5867280"/>
            <a:ext cx="1295280" cy="76212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429000"/>
            <a:ext cx="1295280" cy="990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86400"/>
            <a:ext cx="1295280" cy="1066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1600200"/>
            <a:ext cx="1295280" cy="533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1480" y="595440"/>
            <a:ext cx="1295280" cy="5331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14440" y="4557600"/>
            <a:ext cx="1295280" cy="11430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2640" y="2486160"/>
            <a:ext cx="1295280" cy="60948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5867280"/>
            <a:ext cx="1295280" cy="762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133960" y="3200400"/>
            <a:ext cx="2638440" cy="2438280"/>
            <a:chOff x="5133960" y="3200400"/>
            <a:chExt cx="2638440" cy="2438280"/>
          </a:xfrm>
        </p:grpSpPr>
        <p:sp>
          <p:nvSpPr>
            <p:cNvPr id="55" name=""/>
            <p:cNvSpPr/>
            <p:nvPr/>
          </p:nvSpPr>
          <p:spPr>
            <a:xfrm>
              <a:off x="5133960" y="4572000"/>
              <a:ext cx="1295280" cy="106668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3200400"/>
              <a:ext cx="1295280" cy="53352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ewmiddle" descr=""/>
          <p:cNvPicPr/>
          <p:nvPr/>
        </p:nvPicPr>
        <p:blipFill>
          <a:blip r:embed="rId2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90720" y="4648320"/>
            <a:ext cx="6019560" cy="91440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newmiddle2" descr=""/>
          <p:cNvPicPr/>
          <p:nvPr/>
        </p:nvPicPr>
        <p:blipFill>
          <a:blip r:embed="rId3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3581280"/>
            <a:ext cx="5943600" cy="76212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5:42:46Z</dcterms:created>
  <dc:creator>Watson</dc:creator>
  <dc:description/>
  <dc:language>en-US</dc:language>
  <cp:lastModifiedBy>Watson</cp:lastModifiedBy>
  <dcterms:modified xsi:type="dcterms:W3CDTF">2006-03-15T15:43:46Z</dcterms:modified>
  <cp:revision>1</cp:revision>
  <dc:subject/>
  <dc:title>PowerPoint Presentation</dc:title>
</cp:coreProperties>
</file>