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move the slid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54C1-425C-40F4-8442-15E1A5E47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31 terms - comp 1400, process 8000, function 7300; 86%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at did they think of G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mitations? Weaknes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678D-4224-4349-B663-9535FA89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14AB-E73A-4247-BA35-CC271CE8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B52D-E94B-48D1-99FE-1F3DC6333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F9F6-D7BB-4F08-8B52-A3008371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AED4-C0E3-4D09-8E46-BBB91494E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16F1-3FF4-486C-A12A-495E1865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58ED-0E06-436E-8F13-A2D67F07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D547-82ED-46A4-864F-9D8336A1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24FE-2CC4-4DF6-BA7C-27AD26EB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75B8-268A-4DA7-86B2-F4D55187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0110-044C-49A8-9151-3A407928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AAAE-657D-4DA6-9737-B58DF8B2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167F-90A0-4508-BF71-3532A0EC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4BD2-43B3-40E3-8114-6D90BF62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4063-C4C5-4926-9228-85CDE086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3668-B79A-484B-94A8-0862829F2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7DA6-40ED-4E9F-BB7B-2CDD9081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A19A-8527-4C07-BFAE-A4D990C0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32B6-73BF-40B9-AF9A-770D6FF9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7C84-1EFD-4D91-ACFB-C5DDF5F6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E6FF-536A-46FE-98EC-FDEE1F07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D709-B5FD-4E73-B805-CD800ABF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980B-391B-4A2C-9805-F86B860B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7F10-8214-49D6-8A02-A3EA44AA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D902-18FC-4FF8-AB3F-8AE446C6CC87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B677-9101-4374-A2A5-5336F852FB03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120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GO : the Gene Ontology</a:t>
            </a:r>
            <a:br>
              <a:rPr sz="4400"/>
            </a:br>
            <a:br>
              <a:rPr sz="2000"/>
            </a:br>
            <a:r>
              <a:rPr b="0" i="1" lang="en-US" sz="3600" spc="-1" strike="noStrike">
                <a:solidFill>
                  <a:srgbClr val="1822cd"/>
                </a:solidFill>
                <a:latin typeface="Tahoma"/>
              </a:rPr>
              <a:t>“because you know sometimes</a:t>
            </a:r>
            <a:br>
              <a:rPr sz="3600"/>
            </a:br>
            <a:r>
              <a:rPr b="0" i="1" lang="en-US" sz="3600" spc="-1" strike="noStrike">
                <a:solidFill>
                  <a:srgbClr val="1822cd"/>
                </a:solidFill>
                <a:latin typeface="Tahoma"/>
              </a:rPr>
              <a:t>words have two meanings”</a:t>
            </a:r>
            <a:endParaRPr b="1" lang="en-US" sz="36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elia Irelan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Curato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BI, Cambridge, UK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How does GO work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ological process: the broad goal or ‘purpose’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ucose metabolism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rtship behavio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pamine receptor signaling pathwa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GPs work together in a certain process; a set of functions contribute to building up a proces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Anatomy of a GO term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erms are composed of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 nam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GO I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ition (86% of GO terms defined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onyms (optional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base references (optional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hips to other GO term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600+ term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Anatomy of a GO term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strings may be ambiguous; go by what the definition say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synonyms are ‘related concepts’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search ai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er, narrower, exact or relat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hips stored in synonyms fil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es-specific terms use the phrase “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ensu xx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” - ‘in the sense of’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Ontology Structur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tologies are structured as a hierarchical directed acyclic graph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s are linked by two relationship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-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Webdings"/>
                <a:ea typeface="Webdings"/>
              </a:rPr>
              <a:t>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-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1822cd"/>
                </a:solidFill>
                <a:latin typeface="Webdings"/>
                <a:ea typeface="Web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s can have more than one paren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Ontology Structur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8" name=""/>
          <p:cNvSpPr/>
          <p:nvPr/>
        </p:nvSpPr>
        <p:spPr>
          <a:xfrm>
            <a:off x="62640" y="2043000"/>
            <a:ext cx="7983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membrane          chlorop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mitochondrial        chlorop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membrane            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4038480"/>
            <a:ext cx="0" cy="129564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14600" y="4038480"/>
            <a:ext cx="3352680" cy="137160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4114800"/>
            <a:ext cx="0" cy="1295280"/>
          </a:xfrm>
          <a:prstGeom prst="line">
            <a:avLst/>
          </a:prstGeom>
          <a:ln w="12708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209680" y="2590920"/>
            <a:ext cx="1524240" cy="914400"/>
          </a:xfrm>
          <a:prstGeom prst="line">
            <a:avLst/>
          </a:prstGeom>
          <a:ln w="12708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2590920"/>
            <a:ext cx="1523880" cy="914400"/>
          </a:xfrm>
          <a:prstGeom prst="line">
            <a:avLst/>
          </a:prstGeom>
          <a:ln w="12708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12880" y="1998720"/>
            <a:ext cx="165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is-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822cd"/>
                </a:solidFill>
                <a:latin typeface="Tahoma"/>
              </a:rPr>
              <a:t>part-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True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ath</a:t>
            </a: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 Rul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from a child term all the way up to its top-level parent(s) must always be tru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1822cd"/>
              </a:buClr>
              <a:buFont typeface="Web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lnSpc>
                <a:spcPct val="100000"/>
              </a:lnSpc>
              <a:spcBef>
                <a:spcPts val="601"/>
              </a:spcBef>
              <a:buClr>
                <a:srgbClr val="1822cd"/>
              </a:buClr>
              <a:buFont typeface="Web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romosom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568332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But what about bacteri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True Path Rul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olved component ontology structure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822cd"/>
              </a:buClr>
              <a:buFont typeface="Web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1822cd"/>
              </a:buClr>
              <a:buFont typeface="Web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romosom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ebdings" charset="2"/>
              <a:buChar char="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clear chromosom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1822cd"/>
              </a:buClr>
              <a:buFont typeface="Web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lnSpc>
                <a:spcPct val="100000"/>
              </a:lnSpc>
              <a:spcBef>
                <a:spcPts val="601"/>
              </a:spcBef>
              <a:buClr>
                <a:srgbClr val="1822cd"/>
              </a:buClr>
              <a:buFont typeface="Web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clear chromosom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GO for it!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o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http://www.ebi.ac.uk/~aji/exI.html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Exercise I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"right" or "wrong" answer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in the biological community, words can mean different th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broad terms are difficult to define (eg. cell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you define a term determines what ontology it goes into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component: xxx complex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function: xxx activit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Exercise II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“strengths” of part-of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est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is always part of B and B always has part A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akest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is sometimes part of B and B sometimes has part A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tries to use the strongest form but it is not always possible (eg. cellular components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What’s in a name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 we define “cell”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asic structural and functional unit of all organism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evice that delivers an electric current as the result of a chemical reac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oom where a prisoner is kep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small compartment (eg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el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 honeycomb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mall unit serving as part of or as the nucleus of a larger political movemen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ell can be a whole organism or a part of i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Exercise III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568c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Where would you put ‘cell wall’ and how would you define it? Does it require any children?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568c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How would you deal with viruses?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Exercise III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ens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erms give you greater control over names that have different meanings in different speci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g. TCA cycle enzyme complex (sensu Bacteria) vs TCA cycle enzyme complex (sensu Eukaryota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definitions can dictate ontology structur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Tahoma"/>
              </a:rPr>
              <a:t>Lunch!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rink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Be merr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GO Annot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GO terms to represent the activities and localizations of a gene produc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notations made up of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base object: gene or gene produc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term ID - GO:0003677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for annot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idence code (another vocabulary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GO Annot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red from Sequence/Structural Similarit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red from Direct Assa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red from Physical Interac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eable Author Statemen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traceable Author Statemen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red from Mutant Phenotyp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red from Genetic Interac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red from Expression Patter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red by Curato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ata availabl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red from electronic annota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456320" y="3408480"/>
            <a:ext cx="1078200" cy="782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772400" y="6095880"/>
            <a:ext cx="914400" cy="5335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38160">
            <a:solidFill>
              <a:srgbClr val="3568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6095880"/>
            <a:ext cx="8229600" cy="533520"/>
          </a:xfrm>
          <a:prstGeom prst="rect">
            <a:avLst/>
          </a:prstGeom>
          <a:noFill/>
          <a:ln w="38160">
            <a:solidFill>
              <a:srgbClr val="ff92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GO Annotat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this study, we report the isolation and molecular characterization of the B. napus PERK1 cDNA, that is predicted to encode a novel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receptor-like kinas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  We have shown that like other plant RLKs, the kinase domain of PERK1 ha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serine/threonine kinase activity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 In addition, the location of a PERK1-GTP fusion protein to the plasma membrane supports the prediction that PERK1 is an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integral membrane protein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…these kinases have been implicated in early stages of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wound respons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Function: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protein serine/threonine kinase activity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GO:0004674  (IDA)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Component: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integral to plasma membrane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GO:0005887  (IDA)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Process: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response to wounding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GO:0009611 (NAS)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GO for it (again)!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o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http://www.ebi.ac.uk/~aji/exIV.html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Tahoma"/>
              </a:rPr>
              <a:t>Summary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GO is still being developed and updat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any areas lack detai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ntologies contain error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ew databases join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ew tools being develop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aking links with other databases and ontologies, eg. MetaCyc, UMLS, OBO projec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What is GO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roblem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st amounts of biological data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names for the same concep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-species comparison is difficul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(part of the) solution: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: “a controlled vocabulary that can be applied to all organisms even as knowledge of gene and protein roles in cells is accumulating and changing”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What is GO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of the Open Biological Ontologi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tandard, species-neutral way of representing biolog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structured networks of defined terms to describe gene product attribut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like a phrase book than a biology text book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What is GO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a system of nomenclature or a list of gene produc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doesn’t attempt to cover all aspects of biology or evolutionary relationship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a dictated standar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a way to unify databas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How does GO work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aims to provide a set of terms that can be used to describe gene product attributes. What information might we want to capture about a gene product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How does GO work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does the gene product do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nd when does it act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does it perform these activities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covers ‘normal’ functions and process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thological process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xperimental condition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How does GO work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llular component: where a gene product ac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tochondr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ellula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asome complex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zyme complexes in the component ontology should refer to places, not activities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How does GO work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lecular function: activities or “jobs” of a gene produc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oxide dismutase activit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pid binding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ug transporter activit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e product may have several functions; a function term refers to a single reaction or activity, not a gene product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3T18:39:19Z</dcterms:created>
  <dc:creator>Amelia Ireland</dc:creator>
  <dc:description/>
  <dc:language>en-US</dc:language>
  <cp:lastModifiedBy>aji</cp:lastModifiedBy>
  <dcterms:modified xsi:type="dcterms:W3CDTF">2003-11-27T14:20:49Z</dcterms:modified>
  <cp:revision>18</cp:revision>
  <dc:subject/>
  <dc:title>GO : the Gene Ontology</dc:title>
</cp:coreProperties>
</file>