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6D08-4B6B-4610-A989-5B2F0DD7F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1 terms - comp 1400, process 8000, function 7300; 86%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did they think of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mitations? Weakn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092-3F69-4401-B8B7-C3EAE5CF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37D-6F5D-4663-87C7-C8C1BD11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BE4-8E7F-48B4-B0F8-D90126D2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4BF-3C20-4872-8068-ED7141E3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879F-752E-42E3-ACB9-85F2DD65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E8C3-2852-4FF1-8C23-540B60F7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B842-B3CF-4C33-9CF0-90FC7B15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AD11-12CC-4DD9-BB2F-B736808A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55D0-CA81-49D0-BCDB-CB2CEE3F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EAEE-B476-4990-91BC-F2ACA50F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8B25-1CCD-4033-A03B-7AE37461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9C6-6311-4CA2-8DC3-B18DF0B3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225B-C946-4B2B-BAB0-ABDF9673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DF1B-6D75-4402-8EFE-6AE569D9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EA01-B524-42C7-9428-105C9E5F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6CBD-78C9-4D22-8905-FD5E4C8B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DB59-5E8A-436D-8072-57774522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98A-C7A9-49C3-A80B-C05B65BA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7F2-2CAB-4170-84D9-4214B55A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579-3CD8-4BDF-94E8-B881C022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87D-0356-4FB1-817E-0C1BC2C9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D14-B6CB-4347-B316-05346B52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17E-4870-4808-9616-2B9FA648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7BA-0AC9-4C08-B96E-12C005E3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39FE-AAC5-4E8E-BCB3-BA1AE9CEF56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714B-FE20-4CA7-A753-DC6353A3488D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: the Gene Ontology</a:t>
            </a:r>
            <a:br>
              <a:rPr sz="4400"/>
            </a:br>
            <a:br>
              <a:rPr sz="2000"/>
            </a:br>
            <a:r>
              <a:rPr b="0" i="1" lang="en-US" sz="3600" spc="-1" strike="noStrike">
                <a:solidFill>
                  <a:srgbClr val="1822cd"/>
                </a:solidFill>
                <a:latin typeface="Tahoma"/>
              </a:rPr>
              <a:t>“because you know sometimes</a:t>
            </a:r>
            <a:br>
              <a:rPr sz="3600"/>
            </a:br>
            <a:r>
              <a:rPr b="0" i="1" lang="en-US" sz="3600" spc="-1" strike="noStrike">
                <a:solidFill>
                  <a:srgbClr val="1822cd"/>
                </a:solidFill>
                <a:latin typeface="Tahoma"/>
              </a:rPr>
              <a:t>words have two meanings”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elia Irel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ura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, Cambridge, U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al process: the broad goal or ‘purpose’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ucose metaboli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rtship behavi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amine receptor signaling pathw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GPs work together in a certain process; a set of functions contribute to building up a proces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Anatomy of a GO te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erms are composed 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 nam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GO 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 (86% of GO terms defin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onyms (optiona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references (optiona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s to other GO ter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600+ term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Anatomy of a GO te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strings may be ambiguous; go by what the definition say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synonyms are ‘related concepts’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search a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er, narrower, exact or rela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s stored in synonyms 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es-specific terms use the phrase “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ensu xx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- ‘in the sense of’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Ontology Stru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tologies are structured as a hierarchical directed acyclic grap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s are linked by two relationshi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-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Webdings"/>
                <a:ea typeface="Webdings"/>
              </a:rPr>
              <a:t>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-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822cd"/>
                </a:solidFill>
                <a:latin typeface="Webdings"/>
                <a:ea typeface="Web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s can have more than one par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Ontology Stru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"/>
          <p:cNvSpPr/>
          <p:nvPr/>
        </p:nvSpPr>
        <p:spPr>
          <a:xfrm>
            <a:off x="62640" y="2043000"/>
            <a:ext cx="7983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embrane         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itochondrial       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embrane            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038480"/>
            <a:ext cx="0" cy="1295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038480"/>
            <a:ext cx="3352680" cy="13716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114800"/>
            <a:ext cx="0" cy="129528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2590920"/>
            <a:ext cx="1524240" cy="91440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590920"/>
            <a:ext cx="1523880" cy="91440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12880" y="19987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s-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822cd"/>
                </a:solidFill>
                <a:latin typeface="Tahoma"/>
              </a:rPr>
              <a:t>part-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True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 R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from a child term all the way up to its top-level parent(s) must always be tru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683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ut what about 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True Path R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d component ontology structur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r 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r 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for it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ttp://www.ebi.ac.uk/~aji/exI.htm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"right" or "wrong" answ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in the biological community, words can mean different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broad terms are difficult to define (eg. cell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you define a term determines what ontology it goes in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omponent: xxx comple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function: xxx activ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“strengths” of part-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es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s always part of B and B always has part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kes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s sometimes part of B and B sometimes has part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ries to use the strongest form but it is not always possible (eg. cellular component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’s in a nam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define “cell”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structural and functional unit of all organis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vice that delivers an electric current as the result of a chemical re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oom where a prisoner is kep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mall compartment (e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honeycomb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mall unit serving as part of or as the nucleus of a larger political mov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ell can be a whole organism or a part of i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568c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ere would you put ‘cell wall’ and how would you define it? Does it require any children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568c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would you deal with viruses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ens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erms give you greater control over names that have different meanings in different spec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. TCA cycle enzyme complex (sensu Bacteria) vs TCA cycle enzyme complex (sensu Eukaryota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definitions can dictate ontology stru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Tahoma"/>
              </a:rPr>
              <a:t>Lunch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in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 mer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GO terms to represent the activities and localizations of a gene produ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otations made up 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object: gene or gene produ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erm ID - GO:0003677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for annot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idence code (another vocabular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Sequence/Structural Similar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Direct Ass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Physical Inter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le Author Stat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traceable Author Stat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Mutant Phenotyp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Genetic Inter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Expression Patter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by Curat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ata avail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electronic anno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56320" y="3408480"/>
            <a:ext cx="1078200" cy="782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38160">
            <a:solidFill>
              <a:srgbClr val="356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6095880"/>
            <a:ext cx="8229600" cy="533520"/>
          </a:xfrm>
          <a:prstGeom prst="rect">
            <a:avLst/>
          </a:prstGeom>
          <a:noFill/>
          <a:ln w="38160">
            <a:solidFill>
              <a:srgbClr val="ff9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this study, we report the isolation and molecular characterization of the B. napus PERK1 cDNA, that is predicted to encode a nove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receptor-like kina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 We have shown that like other plant RLKs, the kinase domain of PERK1 ha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serine/threonine kinase activit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In addition, the location of a PERK1-GTP fusion protein to the plasma membrane supports the prediction that PERK1 is a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integral membrane protei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…these kinases have been implicated in early stages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wound respon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Function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protein serine/threonine kinase activity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4674  (IDA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Component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integral to plasma membran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5887  (IDA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Process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response to wounding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9611 (NAS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for it (again)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ttp://www.ebi.ac.uk/~aji/exIV.htm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O is still being developed and upd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y areas lack detai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tologies contain erro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databases join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tools being develop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king links with other databases and ontologies, eg. MetaCyc, UMLS, OBO proje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blem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st amounts of biologic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names for the same concep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species comparison is difficul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(part of the) solution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: “a controlled vocabulary that can be applied to all organisms even as knowledge of gene and protein roles in cells is accumulating and changing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f the Open Biological Ontolog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tandard, species-neutral way of representing biolog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ructured networks of defined terms to describe gene product attribu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like a phrase book than a biology text boo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system of nomenclature or a list of gene produc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doesn’t attempt to cover all aspects of biology or evolutionary relationshi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dictated standa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way to unify datab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aims to provide a set of terms that can be used to describe gene product attributes. What information might we want to capture about a gene produc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es the gene product do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nd when does it ac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es it perform these activitie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overs ‘normal’ functions and proces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thological process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xperimental condi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lular component: where a gene product ac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ochondr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asome complex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zyme complexes in the component ontology should refer to places, not activiti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ar function: activities or “jobs” of a gene produ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oxide dismutase acti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pid bind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g transporter acti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e product may have several functions; a function term refers to a single reaction or activity, not a gene produc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8:39:19Z</dcterms:created>
  <dc:creator>Amelia Ireland</dc:creator>
  <dc:description/>
  <dc:language>en-US</dc:language>
  <cp:lastModifiedBy>aji</cp:lastModifiedBy>
  <dcterms:modified xsi:type="dcterms:W3CDTF">2003-11-27T14:20:49Z</dcterms:modified>
  <cp:revision>18</cp:revision>
  <dc:subject/>
  <dc:title>GO : the Gene Ontology</dc:title>
</cp:coreProperties>
</file>