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1452-7A62-4C44-BC17-2CC67226DD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produced by external services (Gulam Patel). Note that at the end of the animation you need to click on the outside edge of the slide to allow you to move to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67086-E3E0-49FE-9E76-AF69D46D0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B65BF-AB89-4FF9-8706-6974BECCA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17E41-2C5A-48F2-AB92-D94309EE5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6EB2D-EFF8-48D9-8377-E9952D800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C7043-9F0D-46A7-BCC9-830D24E7A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F96C5-0B2E-4509-97F6-4D32C4D95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A63A4-3E38-4052-8498-3974B58BC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998A1-5D5D-47F5-940A-7CCF21335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C2767-0C4F-4628-BBF7-4816FD234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BA541-6851-483E-94F9-6CBD99316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FC2B1-6EE9-41F7-8D62-B04196E63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EB008-8A47-4395-B5DF-B3741D63F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E666-D4F3-4795-A7CB-86A7AA7FE6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fore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ShockwaveFlash1"/>
          <p:cNvGraphicFramePr/>
          <p:nvPr/>
        </p:nvGraphicFramePr>
        <p:xfrm>
          <a:off x="250920" y="981000"/>
          <a:ext cx="8569080" cy="5543640"/>
        </p:xfrm>
        <a:graphic>
          <a:graphicData uri="http://schemas.openxmlformats.org/presentationml/2006/ole">
            <p:oleObj r:id="rId1" spid="">
              <p:embed/>
              <p:pic>
                <p:nvPicPr>
                  <p:cNvPr id="50" name="ShockwaveFlash1" descr=""/>
                  <p:cNvPicPr/>
                  <p:nvPr/>
                </p:nvPicPr>
                <p:blipFill>
                  <a:blip r:embed="rId2"/>
                  <a:stretch/>
                </p:blipFill>
                <p:spPr>
                  <a:xfrm>
                    <a:off x="250920" y="981000"/>
                    <a:ext cx="8569080" cy="5543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ter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so 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26:14Z</dcterms:created>
  <dc:creator>Gulam</dc:creator>
  <dc:description/>
  <dc:language>en-US</dc:language>
  <cp:lastModifiedBy>Watson</cp:lastModifiedBy>
  <dcterms:modified xsi:type="dcterms:W3CDTF">2006-03-15T15:45:53Z</dcterms:modified>
  <cp:revision>33</cp:revision>
  <dc:subject/>
  <dc:title>Slide 1</dc:title>
</cp:coreProperties>
</file>