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9B1D-D1BE-43BE-B13A-0DD5A12179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as produced by external services (Gulam Patel). Note that at the end of the animation you need to click on the outside edge of the slide to allow you to move to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D61B9-B49C-4FA6-AD3A-ED3C247A5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72A13-045D-4B0E-B050-D869C6BFB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B8505-4083-4E3B-AA79-89FEC93A9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701F7-D2DE-488A-B12B-A9D823FA4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90702-ED62-49E1-90D1-C966411F9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3A56A-9C8E-4073-A324-D140528FB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BD92F-7E83-403A-967B-55407625A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C11AF-B234-47FA-BD4D-E223CC68D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CC902-4829-4476-AC11-32561F88E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35DB3-929B-4822-BA16-3D37FFD56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23152-33B5-45C1-B57B-76CE50735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5DC7A-2919-49C5-8EA0-4CED004FD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70D3D-EECE-4D5D-B37D-167862C07F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fore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ShockwaveFlash1"/>
          <p:cNvGraphicFramePr/>
          <p:nvPr/>
        </p:nvGraphicFramePr>
        <p:xfrm>
          <a:off x="250920" y="981000"/>
          <a:ext cx="8569080" cy="5543640"/>
        </p:xfrm>
        <a:graphic>
          <a:graphicData uri="http://schemas.openxmlformats.org/presentationml/2006/ole">
            <p:oleObj r:id="rId1" spid="">
              <p:embed/>
              <p:pic>
                <p:nvPicPr>
                  <p:cNvPr id="50" name="ShockwaveFlash1" descr=""/>
                  <p:cNvPicPr/>
                  <p:nvPr/>
                </p:nvPicPr>
                <p:blipFill>
                  <a:blip r:embed="rId2"/>
                  <a:stretch/>
                </p:blipFill>
                <p:spPr>
                  <a:xfrm>
                    <a:off x="250920" y="981000"/>
                    <a:ext cx="8569080" cy="5543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ter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so 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2:26:14Z</dcterms:created>
  <dc:creator>Gulam</dc:creator>
  <dc:description/>
  <dc:language>en-US</dc:language>
  <cp:lastModifiedBy>Watson</cp:lastModifiedBy>
  <dcterms:modified xsi:type="dcterms:W3CDTF">2006-03-15T15:45:53Z</dcterms:modified>
  <cp:revision>33</cp:revision>
  <dc:subject/>
  <dc:title>Slide 1</dc:title>
</cp:coreProperties>
</file>