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E8A-D773-4486-9230-05DA054B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353-80FE-4C9D-99B6-B2083E01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8BE4-C13F-4AE8-966E-0B98C98F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AC8-1201-4D13-A487-D84CCD67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6D7B-CE45-43C7-BB03-FE12B88A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3DF-12F2-4303-944C-A2B67313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A22-1802-4940-BE7B-E219A619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306-B31E-468C-977C-28DCDCC8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534-F6E6-4C79-901A-0E9C345B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ECB-BD2C-4971-B029-16840AF1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B881-1965-4BC1-994F-963871D5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580-E5E2-458E-9CA4-A01757B4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6E78-5D25-4F28-A2B6-AE93B1A4D0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newfulltree" descr=""/>
          <p:cNvPicPr/>
          <p:nvPr/>
        </p:nvPicPr>
        <p:blipFill>
          <a:blip r:embed="rId1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62480" y="5881680"/>
            <a:ext cx="1295280" cy="762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5867280"/>
            <a:ext cx="1600200" cy="7621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5867280"/>
            <a:ext cx="1295280" cy="76212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3429000"/>
            <a:ext cx="1295280" cy="99072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86400"/>
            <a:ext cx="1295280" cy="1066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600200"/>
            <a:ext cx="1295280" cy="533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81480" y="595440"/>
            <a:ext cx="1295280" cy="5331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14440" y="4557600"/>
            <a:ext cx="1295280" cy="114300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52640" y="2486160"/>
            <a:ext cx="1295280" cy="609480"/>
          </a:xfrm>
          <a:prstGeom prst="rect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5867280"/>
            <a:ext cx="1295280" cy="762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133960" y="3200400"/>
            <a:ext cx="2638440" cy="2438280"/>
            <a:chOff x="5133960" y="3200400"/>
            <a:chExt cx="2638440" cy="2438280"/>
          </a:xfrm>
        </p:grpSpPr>
        <p:sp>
          <p:nvSpPr>
            <p:cNvPr id="55" name=""/>
            <p:cNvSpPr/>
            <p:nvPr/>
          </p:nvSpPr>
          <p:spPr>
            <a:xfrm>
              <a:off x="5133960" y="4572000"/>
              <a:ext cx="1295280" cy="106668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77120" y="3200400"/>
              <a:ext cx="1295280" cy="5335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462560" y="3429000"/>
            <a:ext cx="1295280" cy="9907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57760" y="2467080"/>
            <a:ext cx="1295280" cy="60948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newmiddle" descr=""/>
          <p:cNvPicPr/>
          <p:nvPr/>
        </p:nvPicPr>
        <p:blipFill>
          <a:blip r:embed="rId2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90720" y="4648320"/>
            <a:ext cx="6019560" cy="91440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newmiddle2" descr=""/>
          <p:cNvPicPr/>
          <p:nvPr/>
        </p:nvPicPr>
        <p:blipFill>
          <a:blip r:embed="rId3"/>
          <a:stretch/>
        </p:blipFill>
        <p:spPr>
          <a:xfrm>
            <a:off x="766800" y="109440"/>
            <a:ext cx="7610400" cy="6639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3581280"/>
            <a:ext cx="5943600" cy="762120"/>
          </a:xfrm>
          <a:prstGeom prst="ellipse">
            <a:avLst/>
          </a:pr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5:42:46Z</dcterms:created>
  <dc:creator>Watson</dc:creator>
  <dc:description/>
  <dc:language>en-US</dc:language>
  <cp:lastModifiedBy>Watson</cp:lastModifiedBy>
  <dcterms:modified xsi:type="dcterms:W3CDTF">2006-03-15T15:43:46Z</dcterms:modified>
  <cp:revision>1</cp:revision>
  <dc:subject/>
  <dc:title>PowerPoint Presentation</dc:title>
</cp:coreProperties>
</file>