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830F-C13F-4C35-841F-CC5BD51379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as produced by external services (Gulam Patel). Note that at the end of the animation you need to click on the outside edge of the slide to allow you to move to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550F2-FB36-4915-8258-3E3CA2729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5B210-A0D6-4599-8FA4-740FA55ED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F0428-158D-4327-BD8C-991C893517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A3D78-FE6A-453F-B018-232CC044C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463C9-2231-4A35-BBA2-80ACD98C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8E69-A4AA-42BA-B612-19668453E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38741-34B6-445C-AAE4-6D1DFAA77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341E3-CBE1-4488-8DAB-D0A7B71F4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8E22D-DFBA-4764-BAEA-CAA7BCF27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71801-DB82-4F9E-A617-6429F1E4B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9251A-0847-41D6-BB72-C8CE5341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815DF-6A66-4163-B8A6-A3E4C806A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8578-6E05-4273-BCFD-066C614D34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fore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ShockwaveFlash1"/>
          <p:cNvGraphicFramePr/>
          <p:nvPr/>
        </p:nvGraphicFramePr>
        <p:xfrm>
          <a:off x="250920" y="981000"/>
          <a:ext cx="8569080" cy="5543640"/>
        </p:xfrm>
        <a:graphic>
          <a:graphicData uri="http://schemas.openxmlformats.org/presentationml/2006/ole">
            <p:oleObj r:id="rId1" spid="">
              <p:embed/>
              <p:pic>
                <p:nvPicPr>
                  <p:cNvPr id="50" name="ShockwaveFlash1" descr=""/>
                  <p:cNvPicPr/>
                  <p:nvPr/>
                </p:nvPicPr>
                <p:blipFill>
                  <a:blip r:embed="rId2"/>
                  <a:stretch/>
                </p:blipFill>
                <p:spPr>
                  <a:xfrm>
                    <a:off x="250920" y="981000"/>
                    <a:ext cx="8569080" cy="5543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fter Slid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so o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12:26:14Z</dcterms:created>
  <dc:creator>Gulam</dc:creator>
  <dc:description/>
  <dc:language>en-US</dc:language>
  <cp:lastModifiedBy>Watson</cp:lastModifiedBy>
  <dcterms:modified xsi:type="dcterms:W3CDTF">2006-03-15T15:45:53Z</dcterms:modified>
  <cp:revision>33</cp:revision>
  <dc:subject/>
  <dc:title>Slide 1</dc:title>
</cp:coreProperties>
</file>